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16AD-EA86-488A-BA47-9EEAD0077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B9E6-02E0-4794-94AB-3C08181E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1F95-9EDF-4B85-8C2B-4533F7D93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5EA9-AE83-4BFB-B408-ED1E5B556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4927-656D-45AC-B901-EA2A55CD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14E6-2ABE-4757-A02E-A1479E13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EE5D-549D-4141-9600-0AEAEE56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E953-538C-4205-BCD9-61DD7886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7A03-09E4-4DF0-9540-0C52D38C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E200-7F9D-45BF-A363-D1DC6543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1DF0-3874-43CA-B785-9A34EBD7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C5D1-F9B9-4BE0-B9FA-D79CABC2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6E94-636A-484B-A7CC-711C24BC5F8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Qu’est-ce que c’est en angl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7561080" cy="1206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219640" y="2060640"/>
            <a:ext cx="2448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t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z g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éro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2060640"/>
            <a:ext cx="36007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s y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 n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s orei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s 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s déf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 co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 p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630864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32000" y="6381720"/>
            <a:ext cx="698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eated by H. Butterfie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’est qu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66764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9152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l est énorme, gros et gris.  Il a des petits oreilles et on le trouve en As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5472360" cy="3641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5516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’est un éléphant asiat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0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l est orange et noir.  Il est vite et on le trouve en Asie auss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589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’est un tig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19640" y="2349360"/>
            <a:ext cx="2016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l est noir et blanc et il est timide.  Il a les yeux noirs.  On le trouve en As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30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’est un panda gé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56000" y="2133720"/>
            <a:ext cx="3967200" cy="29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lle est longue et bleue.  Elle est lente.  On la trouve dans la 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30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’est une baleine ble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4762440" cy="3114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244000" y="981000"/>
            <a:ext cx="64764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l est orange et grand.  On le trouve en Afr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30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’est un orang-outa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381480" y="1790640"/>
            <a:ext cx="23810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l est assez grand, long et il a  einen une carapace brune.  On le trouve en As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508464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’est un tortue mar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59280" y="2349360"/>
            <a:ext cx="3384360" cy="25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intenant à vou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112536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n le trouv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184464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n la trouv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64000" y="105264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n Afriqu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1700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n As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93080" y="4797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558972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énor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4941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t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03640" y="558972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r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465300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lan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558972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4724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64000" y="292428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n Arct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35640" y="35002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Eur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64000" y="234936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n Amér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407664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l est / elle 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20:47:48Z</dcterms:created>
  <dc:creator>Helena</dc:creator>
  <dc:description/>
  <dc:language>en-US</dc:language>
  <cp:lastModifiedBy>Helena</cp:lastModifiedBy>
  <dcterms:modified xsi:type="dcterms:W3CDTF">2010-10-22T18:27:26Z</dcterms:modified>
  <cp:revision>11</cp:revision>
  <dc:subject/>
  <dc:title>¿Qué es?</dc:title>
</cp:coreProperties>
</file>